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FF81C-9453-4335-AF99-2B9E98292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61D37-E5F2-4F46-86A5-F96D7599B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DB6066-513E-4CA3-9E25-B044296D0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3E46B9-9F24-42C9-9384-B581361AF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58372A-B4FC-4BAD-88EB-D314122A8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101893-6F4D-4A37-B060-5736DA820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E90A84-C0C9-4BFD-B495-050145627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19EAB7-8AB2-4BF3-8BF7-D5969AEBC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3BFB74-19D1-400F-B0CF-F53E9C72C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2BEF20-B7C7-45BD-9F1B-096928104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2AB175-BB39-44E0-8068-2BEF3B17C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9ACE27-8BF1-496B-BC74-C98661B96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059ED-4422-4D22-82E1-0CC56E90D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454A7D-D0DC-4E39-B991-465C7F282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5E0565-B35F-4BD5-9570-DF99CEB60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7B63F4-F0B0-47BC-9E50-38E020490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DBF0F6-AFE7-4952-B633-1E67917EC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16A8A3-723D-4CFF-989A-6F8CD596F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A5816C-2377-4835-95D1-BC393CC89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E68E08-75D9-402D-87E6-29162A65D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6AB53F-6CC6-429E-8F10-A10BFBB46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065A6B-20CA-4B34-982B-04DED826C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1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F6DEFC-B89E-40FE-8BA1-814615FC2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9077C-F121-4CA3-BFCA-1BFF0F6BC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1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1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1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F7DBCC-80EA-4EA4-8704-32D80C8C7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95077-5896-4E0A-988A-AE6AB7030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3B350-C110-4FFC-B4B5-9B48984D5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EFE3A-D9ED-43EE-B178-F30600AB0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93C48-49E2-48F0-8FFC-F04ECDB93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4B5B1-D603-4BE0-AFE5-263E4477D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BEB43-953B-4747-9A1D-FD70B9E2D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C2390-B898-4F27-AE78-9E07FF512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DA66E-0B0D-42EC-B6E1-AD2ED09D8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882EE-B57E-458B-AF02-335FDDDFF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2AD56-7E14-411C-B360-10A280329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4708E-A254-4D7B-AE3C-E58242764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DDA4D-5E8F-45F7-B963-4CACB4838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C62CE-134A-428D-AE29-25A327727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8DBD71-5701-4E72-9953-A2592534A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7E6F7C-7B0E-45FF-B313-9A0D0EDD0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FA35F8-52FC-40D8-9076-DF1CDAC8B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4A1BBF-446F-473B-9386-4983CE031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C0EA19-EEA8-4817-8794-CB5A18696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3AAB9-F096-49A6-97B1-E2AA5CBA9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51C34C-AC77-4EF3-8855-BEE0128B0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5AC8DB-C594-4CED-AF15-BD552AF27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3D6221-1352-42BF-A61B-36FB2F49A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F1CD44-667A-4ABC-91B9-7BB42D8D2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8E5706-79F6-4FCA-93AC-C23B8A8A5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48A256-11F1-432D-8CEA-5DFF97D06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1E1EF9-743E-4CB2-A18F-8CA37A87B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9F248B-2B40-4870-9854-55150E9A4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95F2B9-F9F9-4F82-A187-C781D8DAE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30604D-EDC0-4682-9F66-37536051A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69596-79F8-488B-AC37-0DC904669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740146-0E09-42C2-88FB-27FECC7BD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24677A-D8D2-41DC-B2FB-0492FD8B5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F9CECF-E253-4951-88D9-FD78D5597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24CC7D-7BAA-43E8-9418-37D0EA771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462E89-552F-4E65-8D19-E7E22A3C7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32114E-FBF9-40DE-A3F8-7D64AB6E5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A94C7B-55A2-4FD9-BF53-EBB3B4B13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39278F-C843-446A-9E2D-589B692B7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07B01F-3CD6-4D0D-AC60-7840A9786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656E11-ECE6-4085-A825-1CDC6DA3B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25EC9-F61F-40A6-9B63-B63C5627C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490782-FAD3-449C-8EB2-F777B1941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4DD8FD-60A9-4774-A928-A8ECDC520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F524B1-429E-415A-BA32-D13CB234D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B1015E-439B-4FF5-B155-288D95784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7246C8-C1B1-4D1E-88D9-2C332FED9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2F78EE-0B0B-4AA4-AEDF-81144FA0F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DEE9C5-78C1-4895-8F3C-6B33E3328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AA8BFA-F498-4F35-9B2D-A3F0A2E67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0E2890-CBEF-4AB0-AA9B-D283F16FF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34CB32-6E79-4BA4-8716-A36A12BF3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976C7-BD45-40AB-ADD0-4818C5204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C15D8B-E604-4E50-8DC3-130B37FFC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51F302-22A4-4ED4-BD8E-C0F402F2C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74A859-95CC-43A2-B69F-AE03113F6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06C0F8-37B4-4ACD-BE42-FD0E4F68D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A8301E-51FC-4B82-90B9-4BE794A48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4AF97E-5866-4B5E-9595-F68AE7D1F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75485E-1C43-4858-A7F5-2A00F5089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E48ED5-64F5-462C-A9AB-D4742E7B1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0D6F17-C0B3-4A91-8DDB-6017FBD74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0EFF80-0707-4ED3-9DE9-FC41B4022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35791-E846-416A-9D98-BDC401A3C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29D900-599D-4D83-ABE6-C2291FBEE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73E598-9F36-496E-830E-4D760F24D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93E8AD-316E-488B-A780-AE165D3CC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74A2F5-A453-4EEC-8C63-009CA0C59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9B3D4B-3253-4DAC-B00A-A399CE957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0A605C-DF68-4F87-8545-B2A0A6A55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70E0BE-EFD8-4CA3-AC09-6065F2D0D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A9EED0-77A5-4E7C-904F-5382F9E50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9BFE94-608D-4ADF-935C-3E39E919A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E83A99-C5C6-49C2-AEF0-FCE51E513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BE397-FFD4-43DC-BB0B-907B898A2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77B19E-17CA-49A0-9005-2AE1020D6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8B547A-DE6F-45AF-B7B8-DCDEF4EE3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AEC556-2B52-4549-AE65-969B38900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C057AE-C3D5-4F69-9596-0A5B31C25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E2B590-19B2-4028-8739-F4E2097D9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77A8B1-4F10-4B99-8B92-944B2B08D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6AB5F3-8751-4D21-BDF6-C549C625C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92EC73-E26E-4968-8D38-9767E935D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948508-D722-40E5-BBDE-21CF4D930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4F9D02-A121-47B1-9546-2398F5167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DD780-C780-4FF4-B5B1-1B21BDB2C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F0E7AB-849B-4ACD-BA37-AF76D4D0A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38D351-A99B-42CF-A5C4-006B0D098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BE49BC-0969-4587-85E6-1CDBFE7E3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83C163-3C9E-46D2-9107-B55528A25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E8643E-B560-41E0-978A-D3B367450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701EF8-2A73-470C-919E-B034A196A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4761DD-D63C-40A6-99F4-2CE35C292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1855D5-1413-4398-A2F3-ABB3B40B1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DFDD7C-5E1A-4C57-869B-AAF7D58F9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06F53B-41C1-407C-ADC6-A35CD557C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10282-031A-487B-84BF-B0C42FD263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5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546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547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49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550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551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552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3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54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555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556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7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58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559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0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61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562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3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64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565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6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67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568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9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70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571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2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73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574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5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76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577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8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79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580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1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82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583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4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85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586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7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88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589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90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91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592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93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94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595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96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97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598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99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00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601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2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03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604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5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06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607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8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09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610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1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12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613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4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15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616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7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618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9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620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621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22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23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624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25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26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627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28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29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630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31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32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633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34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35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636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37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38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639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0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41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642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3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44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645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6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47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648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9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50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651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52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653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654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655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6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7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8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9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0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1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62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63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664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E51C9-9CB7-43F1-9C3D-10C5F7C66939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7AFBE-E8C6-4106-B461-E17287662B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1E71D-5791-4807-B3EC-1F3FCA40B56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CC606-71DD-4BF5-A3A3-EF4FDBC67FA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64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18AEB-2DE6-4207-B72B-BF5D27744E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3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224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B11C2-86B5-4449-BB22-1161C891DF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283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626B3-9955-44B5-A1C7-DD59B1837F20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6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327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9" name="PlaceHolder 1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150FF-14D9-4C72-80F1-A9793E99EE17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9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370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371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73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374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76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377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79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380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381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83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384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385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6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7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388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9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0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391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2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3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394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5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6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397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8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9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400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1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2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403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4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5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406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7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8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9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0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1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12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3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4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15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6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7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18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9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0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421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2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3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424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5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6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427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8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9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430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1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2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433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4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5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436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7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8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439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0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1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442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3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4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445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6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47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8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49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450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1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2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453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4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5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456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7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8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459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0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1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462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3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4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465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6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7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468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9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0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471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2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3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474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5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6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477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8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9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480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1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82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D690B-58A6-4E50-91B8-63E87115C846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6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7e7ff"/>
                </a:solidFill>
                <a:latin typeface="Goudy Stout"/>
              </a:rPr>
              <a:t>Articulating Appeal: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oudy ExtraBold"/>
              </a:rPr>
              <a:t>Opening Up the Book For Reader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oudy ExtraBold"/>
              </a:rPr>
              <a:t>Joyce Saricks &amp; Neal Wyat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7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7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7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7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7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7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ctr"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1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Goudy Stout"/>
              </a:rPr>
              <a:t>pacing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ExtraBold"/>
              </a:rPr>
              <a:t>Describes how it feels to move through the story arc of a boo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" dur="10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7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7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7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 txBox="1"/>
          <p:nvPr/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Adjectives to Describe Pacing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reakne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el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liber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nsely writt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as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grossing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4832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st pac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isurely pac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asur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lax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t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hurri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45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7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7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898" fill="hold"/>
                                        <p:tgtEl>
                                          <p:spTgt spid="7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7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7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898" fill="hold"/>
                                        <p:tgtEl>
                                          <p:spTgt spid="7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7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7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898" fill="hold"/>
                                        <p:tgtEl>
                                          <p:spTgt spid="7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7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7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898" fill="hold"/>
                                        <p:tgtEl>
                                          <p:spTgt spid="7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7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7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898" fill="hold"/>
                                        <p:tgtEl>
                                          <p:spTgt spid="7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7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898" fill="hold"/>
                                        <p:tgtEl>
                                          <p:spTgt spid="7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7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7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898" fill="hold"/>
                                        <p:tgtEl>
                                          <p:spTgt spid="7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7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7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898" fill="hold"/>
                                        <p:tgtEl>
                                          <p:spTgt spid="7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7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7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898" fill="hold"/>
                                        <p:tgtEl>
                                          <p:spTgt spid="7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7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7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898" fill="hold"/>
                                        <p:tgtEl>
                                          <p:spTgt spid="7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7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7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898" fill="hold"/>
                                        <p:tgtEl>
                                          <p:spTgt spid="7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7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7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898" fill="hold"/>
                                        <p:tgtEl>
                                          <p:spTgt spid="7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feec94"/>
                </a:solidFill>
                <a:latin typeface="Goudy Stout"/>
              </a:rPr>
              <a:t>Characters</a:t>
            </a:r>
            <a:br>
              <a:rPr sz="2800"/>
            </a:br>
            <a:r>
              <a:rPr b="1" lang="en-US" sz="2800" spc="-1" strike="noStrike">
                <a:solidFill>
                  <a:srgbClr val="feec94"/>
                </a:solidFill>
                <a:latin typeface="Goudy Stout"/>
              </a:rPr>
              <a:t>or characterization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ExtraBold"/>
              </a:rPr>
              <a:t>Describes the types of characters and how the readers is intended to respond to the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ctr"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2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Adjectives to Describe  Characters or Characterization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etail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istan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ramatic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ccentric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vocativ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aithfu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amilia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triguing secondary characte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trospectiv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ifelik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ultiple points of view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quirk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alistic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cognizabl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ries  characte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vivi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ell develop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ell drawn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147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7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7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898" fill="hold"/>
                                        <p:tgtEl>
                                          <p:spTgt spid="7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7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7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898" fill="hold"/>
                                        <p:tgtEl>
                                          <p:spTgt spid="7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7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7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898" fill="hold"/>
                                        <p:tgtEl>
                                          <p:spTgt spid="7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7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7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898" fill="hold"/>
                                        <p:tgtEl>
                                          <p:spTgt spid="7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7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7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898" fill="hold"/>
                                        <p:tgtEl>
                                          <p:spTgt spid="7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7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7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898" fill="hold"/>
                                        <p:tgtEl>
                                          <p:spTgt spid="7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7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7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898" fill="hold"/>
                                        <p:tgtEl>
                                          <p:spTgt spid="7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7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7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898" fill="hold"/>
                                        <p:tgtEl>
                                          <p:spTgt spid="7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7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7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898" fill="hold"/>
                                        <p:tgtEl>
                                          <p:spTgt spid="7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7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7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898" fill="hold"/>
                                        <p:tgtEl>
                                          <p:spTgt spid="7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7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7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898" fill="hold"/>
                                        <p:tgtEl>
                                          <p:spTgt spid="7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7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7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898" fill="hold"/>
                                        <p:tgtEl>
                                          <p:spTgt spid="7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7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7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898" fill="hold"/>
                                        <p:tgtEl>
                                          <p:spTgt spid="7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7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7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898" fill="hold"/>
                                        <p:tgtEl>
                                          <p:spTgt spid="7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7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7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898" fill="hold"/>
                                        <p:tgtEl>
                                          <p:spTgt spid="7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7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7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898" fill="hold"/>
                                        <p:tgtEl>
                                          <p:spTgt spid="7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7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7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898" fill="hold"/>
                                        <p:tgtEl>
                                          <p:spTgt spid="7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7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7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898" fill="hold"/>
                                        <p:tgtEl>
                                          <p:spTgt spid="7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Goudy Stout"/>
              </a:rPr>
              <a:t>Story line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ExtraBold"/>
              </a:rPr>
              <a:t>Captures the impact of the story line on  the feel of the boo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0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0" dur="10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500"/>
                                        <p:tgtEl>
                                          <p:spTgt spid="7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7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7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Adjectives to Describe </a:t>
            </a:r>
            <a:br>
              <a:rPr sz="4000"/>
            </a:b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Story Line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ction orient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haracter center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mplex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omestic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pisodic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violen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amily center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entle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spiration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ssue orient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ayer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ultiple plotlin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ystic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ythic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pen-end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lot center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lot twist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solved end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ich and famou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trong languag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ought-provok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ragic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0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313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7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7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898" fill="hold"/>
                                        <p:tgtEl>
                                          <p:spTgt spid="7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7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7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898" fill="hold"/>
                                        <p:tgtEl>
                                          <p:spTgt spid="7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7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7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898" fill="hold"/>
                                        <p:tgtEl>
                                          <p:spTgt spid="7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1000"/>
                                        <p:tgtEl>
                                          <p:spTgt spid="7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7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898" fill="hold"/>
                                        <p:tgtEl>
                                          <p:spTgt spid="7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1000"/>
                                        <p:tgtEl>
                                          <p:spTgt spid="7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7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898" fill="hold"/>
                                        <p:tgtEl>
                                          <p:spTgt spid="7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7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7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898" fill="hold"/>
                                        <p:tgtEl>
                                          <p:spTgt spid="7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1000"/>
                                        <p:tgtEl>
                                          <p:spTgt spid="7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7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898" fill="hold"/>
                                        <p:tgtEl>
                                          <p:spTgt spid="7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1000"/>
                                        <p:tgtEl>
                                          <p:spTgt spid="7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7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898" fill="hold"/>
                                        <p:tgtEl>
                                          <p:spTgt spid="7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7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7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898" fill="hold"/>
                                        <p:tgtEl>
                                          <p:spTgt spid="7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1000"/>
                                        <p:tgtEl>
                                          <p:spTgt spid="7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7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898" fill="hold"/>
                                        <p:tgtEl>
                                          <p:spTgt spid="7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1000"/>
                                        <p:tgtEl>
                                          <p:spTgt spid="73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73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898" fill="hold"/>
                                        <p:tgtEl>
                                          <p:spTgt spid="73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1000"/>
                                        <p:tgtEl>
                                          <p:spTgt spid="7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7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898" fill="hold"/>
                                        <p:tgtEl>
                                          <p:spTgt spid="7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1000"/>
                                        <p:tgtEl>
                                          <p:spTgt spid="7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7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898" fill="hold"/>
                                        <p:tgtEl>
                                          <p:spTgt spid="7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2" dur="1000"/>
                                        <p:tgtEl>
                                          <p:spTgt spid="7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7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898" fill="hold"/>
                                        <p:tgtEl>
                                          <p:spTgt spid="7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1000"/>
                                        <p:tgtEl>
                                          <p:spTgt spid="7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7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898" fill="hold"/>
                                        <p:tgtEl>
                                          <p:spTgt spid="7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8" dur="1000"/>
                                        <p:tgtEl>
                                          <p:spTgt spid="7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7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898" fill="hold"/>
                                        <p:tgtEl>
                                          <p:spTgt spid="7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1000"/>
                                        <p:tgtEl>
                                          <p:spTgt spid="7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7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898" fill="hold"/>
                                        <p:tgtEl>
                                          <p:spTgt spid="7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4" dur="1000"/>
                                        <p:tgtEl>
                                          <p:spTgt spid="7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7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898" fill="hold"/>
                                        <p:tgtEl>
                                          <p:spTgt spid="7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1000"/>
                                        <p:tgtEl>
                                          <p:spTgt spid="7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7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898" fill="hold"/>
                                        <p:tgtEl>
                                          <p:spTgt spid="7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1000"/>
                                        <p:tgtEl>
                                          <p:spTgt spid="7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7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898" fill="hold"/>
                                        <p:tgtEl>
                                          <p:spTgt spid="7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8" dur="1000"/>
                                        <p:tgtEl>
                                          <p:spTgt spid="7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7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898" fill="hold"/>
                                        <p:tgtEl>
                                          <p:spTgt spid="7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6" dur="1000"/>
                                        <p:tgtEl>
                                          <p:spTgt spid="74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74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898" fill="hold"/>
                                        <p:tgtEl>
                                          <p:spTgt spid="74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4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oudy Stout"/>
              </a:rPr>
              <a:t>Atmosphere/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Goudy Stout"/>
              </a:rPr>
              <a:t>         ton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Goudy Extra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Goudy ExtraBold"/>
              </a:rPr>
              <a:t>Describes how a reader feels when reading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Goudy Extra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Goudy ExtraBold"/>
              </a:rPr>
              <a:t>Captures the experience the author has created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0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8" dur="10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3" dur="500"/>
                                        <p:tgtEl>
                                          <p:spTgt spid="7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7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7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7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7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7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Black"/>
              </a:rPr>
              <a:t>Adjectives to Describe  Atmosphere/Ton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bittersweet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bleak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contemporary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darker tone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detailed setting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edgy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exotic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reboding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gritty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hard edged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heartwarming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humorous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lush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magica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melodramatic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menacing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mystica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nightmare tone 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politica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psychologica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romantic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tark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uspensefu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timeless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upbeat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urban 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fill="hold">
                      <p:stCondLst>
                        <p:cond delay="0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518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3" dur="1000"/>
                                        <p:tgtEl>
                                          <p:spTgt spid="7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7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898" fill="hold"/>
                                        <p:tgtEl>
                                          <p:spTgt spid="7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1" dur="1000"/>
                                        <p:tgtEl>
                                          <p:spTgt spid="7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7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898" fill="hold"/>
                                        <p:tgtEl>
                                          <p:spTgt spid="7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1000"/>
                                        <p:tgtEl>
                                          <p:spTgt spid="7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7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898" fill="hold"/>
                                        <p:tgtEl>
                                          <p:spTgt spid="7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7" dur="1000"/>
                                        <p:tgtEl>
                                          <p:spTgt spid="7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7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898" fill="hold"/>
                                        <p:tgtEl>
                                          <p:spTgt spid="7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5" dur="1000"/>
                                        <p:tgtEl>
                                          <p:spTgt spid="7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7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898" fill="hold"/>
                                        <p:tgtEl>
                                          <p:spTgt spid="7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3" dur="1000"/>
                                        <p:tgtEl>
                                          <p:spTgt spid="7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7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898" fill="hold"/>
                                        <p:tgtEl>
                                          <p:spTgt spid="7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1000"/>
                                        <p:tgtEl>
                                          <p:spTgt spid="7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7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898" fill="hold"/>
                                        <p:tgtEl>
                                          <p:spTgt spid="7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9" dur="1000"/>
                                        <p:tgtEl>
                                          <p:spTgt spid="7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7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898" fill="hold"/>
                                        <p:tgtEl>
                                          <p:spTgt spid="7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7" dur="1000"/>
                                        <p:tgtEl>
                                          <p:spTgt spid="7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7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898" fill="hold"/>
                                        <p:tgtEl>
                                          <p:spTgt spid="7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5" dur="1000"/>
                                        <p:tgtEl>
                                          <p:spTgt spid="7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7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898" fill="hold"/>
                                        <p:tgtEl>
                                          <p:spTgt spid="7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1000"/>
                                        <p:tgtEl>
                                          <p:spTgt spid="7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7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898" fill="hold"/>
                                        <p:tgtEl>
                                          <p:spTgt spid="7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1" dur="1000"/>
                                        <p:tgtEl>
                                          <p:spTgt spid="7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7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898" fill="hold"/>
                                        <p:tgtEl>
                                          <p:spTgt spid="7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9" dur="1000"/>
                                        <p:tgtEl>
                                          <p:spTgt spid="74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74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898" fill="hold"/>
                                        <p:tgtEl>
                                          <p:spTgt spid="74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4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7" dur="1000"/>
                                        <p:tgtEl>
                                          <p:spTgt spid="7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7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898" fill="hold"/>
                                        <p:tgtEl>
                                          <p:spTgt spid="7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1000"/>
                                        <p:tgtEl>
                                          <p:spTgt spid="7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6" dur="1000" fill="hold"/>
                                        <p:tgtEl>
                                          <p:spTgt spid="7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898" fill="hold"/>
                                        <p:tgtEl>
                                          <p:spTgt spid="7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3" dur="1000"/>
                                        <p:tgtEl>
                                          <p:spTgt spid="7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4" dur="1000" fill="hold"/>
                                        <p:tgtEl>
                                          <p:spTgt spid="7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898" fill="hold"/>
                                        <p:tgtEl>
                                          <p:spTgt spid="7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1" dur="1000"/>
                                        <p:tgtEl>
                                          <p:spTgt spid="7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7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898" fill="hold"/>
                                        <p:tgtEl>
                                          <p:spTgt spid="7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9" dur="1000"/>
                                        <p:tgtEl>
                                          <p:spTgt spid="7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0" dur="1000" fill="hold"/>
                                        <p:tgtEl>
                                          <p:spTgt spid="7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898" fill="hold"/>
                                        <p:tgtEl>
                                          <p:spTgt spid="7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1000"/>
                                        <p:tgtEl>
                                          <p:spTgt spid="7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8" dur="1000" fill="hold"/>
                                        <p:tgtEl>
                                          <p:spTgt spid="7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898" fill="hold"/>
                                        <p:tgtEl>
                                          <p:spTgt spid="7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5" dur="1000"/>
                                        <p:tgtEl>
                                          <p:spTgt spid="7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6" dur="1000" fill="hold"/>
                                        <p:tgtEl>
                                          <p:spTgt spid="7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898" fill="hold"/>
                                        <p:tgtEl>
                                          <p:spTgt spid="7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3" dur="1000"/>
                                        <p:tgtEl>
                                          <p:spTgt spid="7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4" dur="1000" fill="hold"/>
                                        <p:tgtEl>
                                          <p:spTgt spid="7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898" fill="hold"/>
                                        <p:tgtEl>
                                          <p:spTgt spid="7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1" dur="1000"/>
                                        <p:tgtEl>
                                          <p:spTgt spid="7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2" dur="1000" fill="hold"/>
                                        <p:tgtEl>
                                          <p:spTgt spid="7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898" fill="hold"/>
                                        <p:tgtEl>
                                          <p:spTgt spid="7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9" dur="1000"/>
                                        <p:tgtEl>
                                          <p:spTgt spid="7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0" dur="1000" fill="hold"/>
                                        <p:tgtEl>
                                          <p:spTgt spid="7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898" fill="hold"/>
                                        <p:tgtEl>
                                          <p:spTgt spid="7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7" dur="1000"/>
                                        <p:tgtEl>
                                          <p:spTgt spid="7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8" dur="1000" fill="hold"/>
                                        <p:tgtEl>
                                          <p:spTgt spid="7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898" fill="hold"/>
                                        <p:tgtEl>
                                          <p:spTgt spid="7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5" dur="1000"/>
                                        <p:tgtEl>
                                          <p:spTgt spid="7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6" dur="1000" fill="hold"/>
                                        <p:tgtEl>
                                          <p:spTgt spid="7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898" fill="hold"/>
                                        <p:tgtEl>
                                          <p:spTgt spid="7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3" dur="1000"/>
                                        <p:tgtEl>
                                          <p:spTgt spid="74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4" dur="1000" fill="hold"/>
                                        <p:tgtEl>
                                          <p:spTgt spid="74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898" fill="hold"/>
                                        <p:tgtEl>
                                          <p:spTgt spid="74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4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8T16:42:42Z</dcterms:created>
  <dc:creator>NYCDOE</dc:creator>
  <dc:description/>
  <dc:language>en-US</dc:language>
  <cp:lastModifiedBy>NYCDOE</cp:lastModifiedBy>
  <dcterms:modified xsi:type="dcterms:W3CDTF">2008-09-28T17:57:26Z</dcterms:modified>
  <cp:revision>23</cp:revision>
  <dc:subject/>
  <dc:title>Articulating Appeal:</dc:title>
</cp:coreProperties>
</file>